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BC6-65D1-4945-9BA2-12947C50C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ghh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749E-711B-4A83-B607-569AA695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9E6-B13F-4A61-8ED0-3201D64D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53F-E522-4A54-B053-98A7D86C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7DD-DBD9-4D60-A427-241BA996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C5CD-0A8A-4E51-A32E-EB13154E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3E26-8D65-4DAA-9B71-FAA2B470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C8AC-E87F-486A-9B63-ABA243F7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32E2-2E5E-4DB4-89B9-8676BB49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8CDD-8102-46C4-A526-713A291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DECB-F845-43AE-9527-35C611BB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1125-7EDE-4C9D-8252-10DF1F3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586-21FF-4623-8A23-C4B2A9FF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6493-51A8-4D30-ADE1-02A29777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C942-DBCC-425A-B2DD-53796DA5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B69-36F1-4812-B0FC-9A85969D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2094-90F7-460B-A9D5-361C6EC8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7BAC-1415-4732-B9E9-04B12D9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043-2D71-46E0-BDAC-993B4D35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1FB-0997-4ED0-809B-BF5FD0CD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1A6-92B6-43FE-B4A7-A2982EC1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90A-8379-40D5-89C8-89CA9DE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47E-FFEF-48C7-A06F-BB7474F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EF4-C1E9-406E-AA93-A9DDBA7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D70-A771-48DC-B35A-564E3906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980B-DF72-426D-8FBC-B8F0ED8E4A9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4C95-CC4A-43AE-8A4A-E9AE871E053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 Marcell and Chr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number written with the bottom part [the denominator]telling you how many parts the whole is divided into, and the top part (the numerator) telling how many you hav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"/>
              </a:rPr>
              <a:t>Asce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1840" y="3246480"/>
            <a:ext cx="868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ranged from smallest to Largest.Increasing.These number are in ascending order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0:37Z</dcterms:created>
  <dc:creator>Christopher.Brooks</dc:creator>
  <dc:description/>
  <dc:language>en-US</dc:language>
  <cp:lastModifiedBy>Christopher.Brooks</cp:lastModifiedBy>
  <dcterms:modified xsi:type="dcterms:W3CDTF">2010-11-23T19:49:57Z</dcterms:modified>
  <cp:revision>4</cp:revision>
  <dc:subject/>
  <dc:title>Vocabulary</dc:title>
</cp:coreProperties>
</file>